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C923-08D1-4361-9805-9197F4802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1F71-E1F0-4EE8-BC96-F52F44458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969-8E93-4E52-AE01-00CE9F88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8D6-CFCA-428D-95DC-B8A342E1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C92-07DD-4EBA-B24F-BB457ECB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8C4-9541-4702-85E2-7BB73BCE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A2B-C863-43A0-8D5A-E4E789A3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6D7-C7F9-44B5-8825-4B43FF87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229-7F40-4F05-B632-22B1FA87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AC5-178E-4CD1-9218-A574FF8C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4D5-8131-47FA-AA4B-A079C27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855-B0EB-4032-8D2E-A74317E9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698-3C28-4CD9-A2FD-391B110F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5C4-9393-48BF-A97D-792BFF5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2ea1"/>
            </a:gs>
            <a:gs pos="100000">
              <a:srgbClr val="1024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E41F-76DF-4FE8-88A2-977DD94DF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50sAqkvWbc" TargetMode="External"/><Relationship Id="rId3" Type="http://schemas.openxmlformats.org/officeDocument/2006/relationships/hyperlink" Target="http://www.youtube.com/watch?v=g50sAqkvWbc" TargetMode="External"/><Relationship Id="rId4" Type="http://schemas.openxmlformats.org/officeDocument/2006/relationships/hyperlink" Target="http://www.youtube.com/watch?v=g50sAqkvWb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29123" r="0" b="-4380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85800" y="685800"/>
            <a:ext cx="7696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c60a"/>
                </a:solidFill>
                <a:latin typeface="BlairMdITC TT-Medium"/>
              </a:rPr>
              <a:t>17.2 Curr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60a"/>
                </a:solidFill>
                <a:latin typeface="BlairMdITC TT-Medium"/>
              </a:rPr>
              <a:t>pages 593-5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2578320" y="531828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’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 get an introdu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ductors vs. Ins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or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fl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lator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do not fl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conductors conduct under certai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 state: ins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specific atoms allows electric charge to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in manufacturing of most electronic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cessary due to change in temp &amp; compositio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 alter con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: Silicon and Germanium in computer boards; LED 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749920" y="1905120"/>
            <a:ext cx="3378240" cy="105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.3 Circuits: </a:t>
            </a:r>
            <a:r>
              <a:rPr b="0" lang="en-US" sz="4400" spc="-1" strike="noStrike" u="sng">
                <a:solidFill>
                  <a:srgbClr val="ff66ff"/>
                </a:solidFill>
                <a:uFillTx/>
                <a:latin typeface="Arial"/>
              </a:rPr>
              <a:t>Seri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400" spc="-1" strike="noStrike" u="sng">
                <a:solidFill>
                  <a:srgbClr val="66ffff"/>
                </a:solidFill>
                <a:uFillTx/>
                <a:latin typeface="Arial"/>
              </a:rPr>
              <a:t>Paralle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p. 6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rcu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t of electrical components connected such that they provide one or more complete paths for the movement of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or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types of circu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440" y="3805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0" lang="en-US" sz="3600" spc="-1" strike="noStrike" u="sng">
                <a:solidFill>
                  <a:srgbClr val="ff66ff"/>
                </a:solidFill>
                <a:uFillTx/>
                <a:latin typeface="Arial"/>
              </a:rPr>
              <a:t>Series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ff"/>
                </a:solidFill>
                <a:latin typeface="Arial"/>
              </a:rPr>
              <a:t>Single path for cur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ff"/>
                </a:solidFill>
                <a:latin typeface="Arial"/>
              </a:rPr>
              <a:t>Amount of charge that enters a device=amount of charge that exits a de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ff"/>
                </a:solidFill>
                <a:latin typeface="Arial"/>
              </a:rPr>
              <a:t>Current in each device is same, resistances may be different depending on the device (light bulb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24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ff"/>
                </a:solidFill>
                <a:latin typeface="Arial"/>
              </a:rPr>
              <a:t>Voltage across each device may be diffe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ff"/>
                </a:solidFill>
                <a:latin typeface="Arial"/>
              </a:rPr>
              <a:t>One element in circuit removed, circuit is op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4"/>
          <p:cNvSpPr/>
          <p:nvPr/>
        </p:nvSpPr>
        <p:spPr>
          <a:xfrm>
            <a:off x="4648320" y="457200"/>
            <a:ext cx="0" cy="609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181480" y="380880"/>
            <a:ext cx="3733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Parall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ff"/>
                </a:solidFill>
                <a:latin typeface="Arial"/>
              </a:rPr>
              <a:t>Multiple paths for cur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ff"/>
                </a:solidFill>
                <a:latin typeface="Arial"/>
              </a:rPr>
              <a:t>Amount of charge that enters may be different from the amount that ex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ff"/>
                </a:solidFill>
                <a:latin typeface="Arial"/>
              </a:rPr>
              <a:t>Current in each device does not have to be the same </a:t>
            </a:r>
            <a:r>
              <a:rPr b="0" lang="en-US" sz="21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66ffff"/>
                </a:solidFill>
                <a:latin typeface="Arial"/>
              </a:rPr>
              <a:t> sum of currents in all devices = total cur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ff"/>
                </a:solidFill>
                <a:latin typeface="Arial"/>
                <a:ea typeface="ＭＳ Ｐゴシック"/>
              </a:rPr>
              <a:t>Voltage across each device is the s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ff"/>
                </a:solidFill>
                <a:latin typeface="Arial"/>
              </a:rPr>
              <a:t>One element in circuit is removed, charges would still move through other loop(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1752480" y="5257800"/>
            <a:ext cx="1689120" cy="13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7010280" y="5181480"/>
            <a:ext cx="108612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90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it mean if you have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ten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o some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ll roll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wnh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ves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vitation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ergy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vitation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tenti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 charges do the same thing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gative charge will move away from another nega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411480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al 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1905120"/>
            <a:ext cx="43434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ical potential ener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he ability to move an electric charge from one poin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495288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ical potent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wo like charg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the charg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ea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nd vice vers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43434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990720"/>
            <a:ext cx="8839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enti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gy 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changes depending on the distance b/w the char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Repul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(2 like charges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 </a:t>
            </a: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y get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72bf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2bfc5"/>
                </a:solidFill>
                <a:uFillTx/>
                <a:latin typeface="Arial"/>
              </a:rPr>
              <a:t>Attr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(2 opp. charges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 </a:t>
            </a:r>
            <a:r>
              <a:rPr b="0" lang="en-US" sz="2400" spc="-1" strike="noStrike" u="sng">
                <a:solidFill>
                  <a:srgbClr val="72bfc5"/>
                </a:solidFill>
                <a:uFillTx/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y get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ulsive &amp; attractive PE are opposite of on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5448600" cy="269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Rectangle 4"/>
          <p:cNvSpPr/>
          <p:nvPr/>
        </p:nvSpPr>
        <p:spPr>
          <a:xfrm>
            <a:off x="228600" y="44956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practical to consid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tenti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 what is potential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electrical PE divided by its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difference =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Change in electrical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an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ccurs as a charge moves from one place to another in an electrical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ol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38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is reason, potential difference is often called voltage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asically the force through which e- move along a conduc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ltage &amp; Batt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840" y="609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(potential difference) across two ends (terminals) of a battery ranges from 1.5 V (small battery) – 12 V (c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causes charges to move from side with higher PE to lower 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tteries are </a:t>
            </a:r>
            <a:r>
              <a:rPr b="1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e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devices that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produ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lectric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onverting chemic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radiant energy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into electr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ly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lectrically conduc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wo; each diff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iv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dry or 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876920" y="4876920"/>
            <a:ext cx="4038480" cy="180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ic curr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ate at which charges (e-) move through a 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is measure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pe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ampere of current = 1 coulomb of charge moving past a point in 1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 of current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ppos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direction the e-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&amp; E- Flow 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-25560" y="1752480"/>
            <a:ext cx="91695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ff06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a7ff06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a7ff0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a7ff06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a7ff06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Electrons// will flow towards the opposite charge.  That’s which direction?  Right to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\\current\\ is the opposite direction.  Left to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\\current\\ does flow from positive to neg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//electrons// do get pulled towards the posi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we define electric current to be the opposite direction of electron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al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bulbs use different amounts of power b/c different currents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in currents is due to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ff3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005"/>
                </a:solidFill>
                <a:uFillTx/>
                <a:latin typeface="Arial"/>
              </a:rPr>
              <a:t>Res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used by internal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fri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sl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ovement of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char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a condu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 = 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572000" y="54100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= 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5638680" y="5181480"/>
            <a:ext cx="35053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R= resistance (ohm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Ω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V= voltage (volts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I= current (ampere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4:26:12Z</dcterms:created>
  <dc:creator>Sarah Sewatsky User</dc:creator>
  <dc:description/>
  <dc:language>en-US</dc:language>
  <cp:lastModifiedBy>Jillian Boisse</cp:lastModifiedBy>
  <cp:lastPrinted>2013-11-05T19:04:26Z</cp:lastPrinted>
  <dcterms:modified xsi:type="dcterms:W3CDTF">2013-11-05T19:18:16Z</dcterms:modified>
  <cp:revision>44</cp:revision>
  <dc:subject/>
  <dc:title>PowerPoint Presentation</dc:title>
</cp:coreProperties>
</file>